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8BB0-B15C-4319-90D6-A45B7EEB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D654-49BC-4AD3-80E2-62211D06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FDFE-65D6-48C3-9E26-E913C4B8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0585-5412-426B-87A7-987DCC6E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CC6C-422D-4C41-9D43-E904164BC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60E1-68F0-4417-9807-E0C06F97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603C-11BC-4E0B-A13E-3BC3D6BA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F6B9-59E2-4AE1-BA2C-B673C9CA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F8CF-5F42-4965-AF6C-37558A10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52C7-B224-4B38-866B-1F1E7B1D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68AC-D505-4BDF-B45E-3AFD869C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1DE1-83C4-4FCA-BED4-172C23E6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1CCA-70A6-4478-A6AD-51D8B3B0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0E4B-7A60-40C8-9AF0-2BC9126B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F630-CFCD-4E0D-A566-4A6456A3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4022-7CED-445E-BB3F-321D4865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7B8C-D11C-48D3-ABC3-3441602F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DD87-3B63-4BEB-AD89-FB42B80B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5F14-563C-407D-998F-562AB8F8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3AB0-4E6E-44F5-893C-5E8AA20B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B4B0-EC8E-4A76-8EE8-1D73EF64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035-7B36-40C0-BCF9-8E9FCE16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6EAA-0188-4765-AB5C-68CB3014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8CA1-FA21-422F-8C04-2A0F7C82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D785-A1FD-438B-BC8A-1622C346E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3F67-E84A-4B5B-B14A-BF24FF61F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pennmuseum.com/cuneiform.cgi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21304"/>
                </a:solidFill>
                <a:latin typeface="Times New Roman"/>
              </a:rPr>
              <a:t>MESOPOTAMIA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esentation about the FIRST ancient civil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cunB" descr=""/>
          <p:cNvPicPr/>
          <p:nvPr/>
        </p:nvPicPr>
        <p:blipFill>
          <a:blip r:embed="rId1"/>
          <a:stretch/>
        </p:blipFill>
        <p:spPr>
          <a:xfrm>
            <a:off x="5148360" y="1447920"/>
            <a:ext cx="2728800" cy="4876560"/>
          </a:xfrm>
          <a:prstGeom prst="rect">
            <a:avLst/>
          </a:prstGeom>
          <a:ln w="0">
            <a:noFill/>
          </a:ln>
        </p:spPr>
      </p:pic>
      <p:pic>
        <p:nvPicPr>
          <p:cNvPr id="117" name="cunR" descr=""/>
          <p:cNvPicPr/>
          <p:nvPr/>
        </p:nvPicPr>
        <p:blipFill>
          <a:blip r:embed="rId2"/>
          <a:stretch/>
        </p:blipFill>
        <p:spPr>
          <a:xfrm>
            <a:off x="1600200" y="1447920"/>
            <a:ext cx="2730600" cy="4876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71600" y="4572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. Belardo in Cuneiform wr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19320" y="18288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Lets pick some volunteers to see what their names would look like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66680" y="6094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CIENT MESOPOTAM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67652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ient Mesopotamia was 300 miles long and 150 miles w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25909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nd was positioned between two rivers –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IGR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UPHR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mesopotamia" descr=""/>
          <p:cNvPicPr/>
          <p:nvPr/>
        </p:nvPicPr>
        <p:blipFill>
          <a:blip r:embed="rId1"/>
          <a:stretch/>
        </p:blipFill>
        <p:spPr>
          <a:xfrm>
            <a:off x="2514600" y="3429000"/>
            <a:ext cx="455292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52480" y="38088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LIMA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28195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imate in Mesopotamia ranges from cold season to season with temperatures higher than 110 deg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4343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gion had short periods of rainf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45720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8288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 most of Mesopotamia is located in the modern day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28195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nd, which was once dominated by floods, is now all des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37339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asonal flooding was a challenge to the farmers of Mesopotamia, they learned to control it and produced crops such as wheat, barley, sesame, flax, and fruits and vegg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51814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nd that was once marshes and channels that provided food, protection, and life to the people there, no longer exi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95280" y="45720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45720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5335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atural Resourc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18288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opotamia was filled with silt and cl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048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of Mesopotamia used silt and clay as well as reeds, palm trees, and mud to build their homes and te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49528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y was also the foundation for all their writing tabl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66680" y="53352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uneiform Writ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uneiformorigin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739116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19320" y="457200"/>
            <a:ext cx="7238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ICTURES OF MESOPOTAMIAN CLAY TABLE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100D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415908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sumerianpictotablet" descr=""/>
          <p:cNvPicPr/>
          <p:nvPr/>
        </p:nvPicPr>
        <p:blipFill>
          <a:blip r:embed="rId1"/>
          <a:stretch/>
        </p:blipFill>
        <p:spPr>
          <a:xfrm>
            <a:off x="1828800" y="533520"/>
            <a:ext cx="586728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neareast07L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6197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21:45:28Z</dcterms:created>
  <dc:creator> Rob</dc:creator>
  <dc:description/>
  <dc:language>en-US</dc:language>
  <cp:lastModifiedBy> Rob</cp:lastModifiedBy>
  <dcterms:modified xsi:type="dcterms:W3CDTF">2005-10-03T13:54:29Z</dcterms:modified>
  <cp:revision>2</cp:revision>
  <dc:subject/>
  <dc:title>MESOPOTAMIA</dc:title>
</cp:coreProperties>
</file>